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2.png" ContentType="image/png"/>
  <Override PartName="/ppt/media/image20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008C-62EC-4BF3-AD32-614898B0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C5C1-2BD9-4C0D-8AAC-94EC365E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CC53-78A9-490D-8F01-6DB46832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678F-2523-472E-AA24-12DE5882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31B1-5C3E-4D50-90F8-21E94428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F341-FCAB-42F1-875C-F2925115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E84F-8016-4DD4-89EE-3C8FC20B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722C-7E21-4DF8-BA2B-254F3416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5368-347B-4675-BF25-AC99F5F3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1957-A6FB-4A0A-B648-F01EE4D1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A3A8-DB28-449B-B756-C7F94933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D7F4-A923-4FB6-ABCB-FE4C1236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4BB1-3170-4EE7-8349-691220B2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E459-A997-4AF3-AC89-254263D6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7766-C515-4F21-AEA0-A30E61D2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8FF4-4EBF-4B68-A38F-F35F58EA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FAF6-EA6B-4CF1-B5B3-22078005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D60A-69D7-4FD3-9FE6-7878A36E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F50-F60F-455B-AF22-D0206F8E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0D6D-4FB2-4810-8E07-2E519D67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2E9-3561-4CFE-9B0B-C7F5CCD8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C1F9-8121-40A5-A4D4-DF3CC29F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C5C4-902E-40D0-98AA-47186784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9F9-FDF6-41BA-AD11-BDDF3EC3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1EB4-28C3-41C8-A2E7-B60955CC2A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401D-39C4-4DEF-8268-368423EECF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CD-9-CM Coordination and Maintenance Committee</a:t>
            </a:r>
            <a:br>
              <a:rPr sz="44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ters for Medicare &amp; Medicaid Services</a:t>
            </a:r>
            <a:br>
              <a:rPr sz="28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-ventricular Replacement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tember 27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rtley P. Griffith, M.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ief Cardiac Surgery Director, Heart and Lung Transplant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versity of Maryland Medical Center (UMM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20231" r="0" b="0"/>
          <a:stretch/>
        </p:blipFill>
        <p:spPr>
          <a:xfrm>
            <a:off x="1676520" y="3446640"/>
            <a:ext cx="5181480" cy="3117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505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8242"/>
                </a:solidFill>
                <a:latin typeface="Arial"/>
              </a:rPr>
              <a:t>1985-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62920" y="62485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Dr. Griffit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210200" cy="56354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842160" y="6132600"/>
            <a:ext cx="207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73480" y="469800"/>
            <a:ext cx="4395600" cy="5916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918480" y="5904000"/>
            <a:ext cx="199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666880" y="685800"/>
            <a:ext cx="3865680" cy="54165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781680" y="6324480"/>
            <a:ext cx="214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392200" y="341280"/>
            <a:ext cx="4359600" cy="6175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18480" y="6361200"/>
            <a:ext cx="199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384960" y="6284880"/>
            <a:ext cx="24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Dr. Arusogl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699160" y="6056280"/>
            <a:ext cx="283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Dr. Arusogl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anted CardioWest TAH-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4459320" cy="50626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375680" y="6132600"/>
            <a:ext cx="146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75680" y="6208560"/>
            <a:ext cx="131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00800" y="630720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entricular Assist Device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(VAD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38862" t="1469" r="1709" b="4415"/>
          <a:stretch/>
        </p:blipFill>
        <p:spPr>
          <a:xfrm>
            <a:off x="533520" y="1600200"/>
            <a:ext cx="1981080" cy="4876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12859" t="1512" r="15535" b="1512"/>
          <a:stretch/>
        </p:blipFill>
        <p:spPr>
          <a:xfrm>
            <a:off x="2743200" y="1600200"/>
            <a:ext cx="2971800" cy="4876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rcRect l="32183" t="1512" r="1609" b="1512"/>
          <a:stretch/>
        </p:blipFill>
        <p:spPr>
          <a:xfrm>
            <a:off x="5943600" y="1600200"/>
            <a:ext cx="2743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562720" cy="5268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20120" y="601992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presentative Resected He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197000" y="1176480"/>
            <a:ext cx="6918480" cy="5271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90080" y="6002280"/>
            <a:ext cx="853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courtes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r. Cope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341960" cy="5483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08660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003560" cy="5124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613560" y="6132600"/>
            <a:ext cx="1539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19920" y="6002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6883560" cy="4562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010280" y="6172200"/>
            <a:ext cx="192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4029120" cy="5694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918480" y="6056280"/>
            <a:ext cx="199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20:30:28Z</dcterms:created>
  <dc:creator>cmarcot</dc:creator>
  <dc:description/>
  <dc:language>en-US</dc:language>
  <cp:lastModifiedBy>cmarcot</cp:lastModifiedBy>
  <dcterms:modified xsi:type="dcterms:W3CDTF">2007-10-05T18:55:02Z</dcterms:modified>
  <cp:revision>10</cp:revision>
  <dc:subject/>
  <dc:title>Slide 1</dc:title>
</cp:coreProperties>
</file>